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3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24.jpeg" ContentType="image/jpeg"/>
  <Override PartName="/ppt/media/wind.wav" ContentType="audio/x-wav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9965797-710E-4D20-A388-11F9864EAA30}" type="datetime">
              <a:rPr b="0" lang="pt-PT" sz="1200" spc="-1" strike="noStrike">
                <a:solidFill>
                  <a:srgbClr val="000000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402120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2FE9F0F-22DE-4F9B-B09B-64619C1B5337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25B9C9F-AFB4-4E86-926F-3876106343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B4A621C-1C9D-4071-9ABC-AE1DFAB58E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68211693-C789-40CD-BD09-C4409250DB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779B8B5-0098-43CE-BC71-47FAB9E553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74A7D8B-98C3-4D34-A132-C35FC8A08D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Marcador de Posição do Número do Diapositivo 3"/>
          <p:cNvSpPr/>
          <p:nvPr/>
        </p:nvSpPr>
        <p:spPr>
          <a:xfrm>
            <a:off x="402120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EAF50CD-7CC7-4BEE-9E37-FC8B7A11D66E}" type="slidenum">
              <a:rPr b="0" lang="pt-P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Marcador de Posição do Número do Diapositivo 3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0BD09A4-86BC-409B-96E9-30B4F35EDA49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Marcador de Posição do Número do Diapositivo 3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D74AA5-708C-4718-9449-90D2D474E929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9487-1D06-4939-95EE-514D68F704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83171-DDFD-410E-B410-05F9D79BA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295E3-18DE-4CAF-BAAE-9DB46C6CA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6C11-1C12-44F5-9D9A-6139F6C378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7814-1118-4412-87AF-FE9E2E000B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5888-2598-450D-A1E5-2531A4071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E94C5-09B6-424C-AE80-FFA2F021F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CEEE-6A78-4F8A-843E-AE2CE03CE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217E-F180-4AA9-9B33-FC59615C2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01C8-03F1-47B9-8237-872705D4B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DCF4-18DB-4322-A330-DC190ADB5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B1AA-14D8-4FF0-A829-2AD4D4780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9280" y="6597360"/>
            <a:ext cx="684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FF40-B79B-431E-88E6-1403D27377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http://www.fseventos.pt/" TargetMode="External"/><Relationship Id="rId3" Type="http://schemas.openxmlformats.org/officeDocument/2006/relationships/hyperlink" Target="http://www.portimar.pt/" TargetMode="External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hyperlink" Target="http://www.fseventos.pt/" TargetMode="Externa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72320" y="6424560"/>
            <a:ext cx="392040" cy="40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6396120"/>
            <a:ext cx="1368360" cy="46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698920" y="6399360"/>
            <a:ext cx="1152360" cy="452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913520" y="6391440"/>
            <a:ext cx="762120" cy="477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1440"/>
            <a:ext cx="8642160" cy="14828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50920" y="0"/>
            <a:ext cx="2017440" cy="14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2340000" y="79704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vantGarde"/>
              </a:rPr>
              <a:t>Autódromo Internacional do Alga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vantGarde"/>
              </a:rPr>
              <a:t>16-18 Outubro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268360" y="0"/>
            <a:ext cx="655344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vantGarde"/>
              </a:rPr>
              <a:t>Ferrari, Maserati e Os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vantGarde"/>
              </a:rPr>
              <a:t>EUROPEAN CHARITY PA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4645080" y="6423120"/>
            <a:ext cx="934920" cy="40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983D-BBC6-45F9-9D36-7094E8B83C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86160" y="2565360"/>
            <a:ext cx="4171680" cy="685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620640"/>
            <a:ext cx="8785440" cy="575964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5084640"/>
            <a:ext cx="23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Arial"/>
              </a:rPr>
              <a:t>OFFICIAL TRAVEL AG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0" y="3283200"/>
            <a:ext cx="91440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ranciscoSantos Eventos, Unipessoal L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Rua das Acácias, 140 - 1º  2750-602 Cascais – Portug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Tel./Fax: (+351) 21 484 4535 | Mobile: (+351) 92 794 3494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ranciscosantos@fseventos.pt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fseventos.pt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 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/>
          <p:nvPr/>
        </p:nvSpPr>
        <p:spPr>
          <a:xfrm>
            <a:off x="2340000" y="5300640"/>
            <a:ext cx="62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PORTIMAR - Agência de Viagens e Turismo, Ld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Edificio Portimar, Alto do Quintão. 8500-833 Portimão // Portugal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Tel.: +351 282 470 018 | Fax: +351 282 470 051 | </a:t>
            </a:r>
            <a:r>
              <a:rPr b="0" lang="pt-PT" sz="1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www.portimar.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39840" y="5064120"/>
            <a:ext cx="2019240" cy="8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5B12C-BDB0-4FD7-B6CC-F5F7583DF5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1889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2843280" cy="1800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500280"/>
            <a:ext cx="2843280" cy="1816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841480" y="1989000"/>
            <a:ext cx="3025800" cy="2013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0" y="5316480"/>
            <a:ext cx="2843280" cy="1484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5867280" y="4292640"/>
            <a:ext cx="3276720" cy="217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5867280" y="0"/>
            <a:ext cx="3276720" cy="2176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5867280" y="2133720"/>
            <a:ext cx="3276720" cy="2181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2843280" y="0"/>
            <a:ext cx="3024000" cy="2014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2843280" y="4005360"/>
            <a:ext cx="3024000" cy="2400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8244000" y="6394320"/>
            <a:ext cx="649080" cy="473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5280" y="6524640"/>
            <a:ext cx="66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6508800"/>
            <a:ext cx="77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Visite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2"/>
              </a:rPr>
              <a:t>http://www.fseventos.pt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e entre na secção de Event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8AE79-5A6C-4C41-9B72-3816C85C41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1"/>
          <p:cNvSpPr/>
          <p:nvPr/>
        </p:nvSpPr>
        <p:spPr>
          <a:xfrm>
            <a:off x="2484360" y="320760"/>
            <a:ext cx="6410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f497d"/>
                </a:solidFill>
                <a:latin typeface="Arial"/>
                <a:ea typeface="Arial"/>
              </a:rPr>
              <a:t>UM PROGRAMA EXTEN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Clássicos de excelência. Pilotos de referê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1150920"/>
            <a:ext cx="6264360" cy="51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O Algarve Historic Festival pretende ser uma referência nacional e internacional nos eventos de automobilism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Esta é a primeira edição do evento no novo circuito português – Autódromo Internacional do Algarve.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O programa inclui 16 corridas e 12 categorias de carros de competição clássicos e histórico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HGPCA: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Pre-1961and Pre-1966 F1, BRDC/HGPCA Sports Ca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otor Racing Legends: 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e-War GP Car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The Masters Serie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Grand Prix Masters, World Sportscar Masters, Sports Racing Masters, Gentlemen Drivers GT &amp; Sport, Pre-66 Saloons, Touring ’70s, Proto ’70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ormula Junior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Lurani Formula Juni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errari, Maserati, Osca European Charity Parade: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Desfile internacional com carros de proprietários portugueses, espanhóis e da Europa no geral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atronos – Maria Teresa de Filippis e Ing. Alfieri Masera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INI 50 Year Commemoration Charity Parade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oprietários de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inis de provenientes de toda a Europa experimentarão a nova pista, no Algarve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Apoio a um Instituição de Solidariedade Social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Doação de parte da receita gerada pelas inscrições nos desfi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1771560" cy="1173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1790640" cy="1187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50920" y="4581360"/>
            <a:ext cx="1800000" cy="11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C892E-6F5F-46C0-BFB8-AEC79F9C18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1"/>
          <p:cNvSpPr/>
          <p:nvPr/>
        </p:nvSpPr>
        <p:spPr>
          <a:xfrm>
            <a:off x="2484360" y="307800"/>
            <a:ext cx="64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PROGRAMA PROVISÓ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9440" y="1843200"/>
            <a:ext cx="2105280" cy="31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171960" y="765000"/>
            <a:ext cx="4789440" cy="604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F90BF-2A7C-48D0-8180-FF4B512ADD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484360" y="307800"/>
            <a:ext cx="64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PROGRAMA DO CHARITY PA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(Desfi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-36360" y="752400"/>
            <a:ext cx="2520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ERRARI, MASERATI, OSCA EUROPEAN CHARITY PARA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1944720" cy="1297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84360" y="1125360"/>
            <a:ext cx="6659640" cy="52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. CARROS ADMITIDO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odelos Ferrari e Maserati  de qualquer an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2. PATRONO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aria Teresa de Filippis e Ing. Alfieri Masera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3.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OGRAM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Domingo 18 Out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1.30h – Concentração no Paddock do A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2.55h – Desfile com três voltas na pist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3.45h – Almoço e Entrega de prémios – VIP Loung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Opcional (a reservar com a Portimar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Sexta 16 Out: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Estadia no Hotel e tours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Sábado 17 Out: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6.00h – Concentração em Portim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20.00h – Jantar com espectáculo – Casi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4. TAXA DE INSCRIÇÃO – € 19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Inclui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laca do des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Dois passes de fim-de-semana: Paddock e Bancada V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Estacionamento dedicado no Paddo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Dois almoços no Domingo, no VIP Lou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émios e lembranç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Três voltas na pista do Autódromo de Portim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Contribuição beneficente de € 50 a reverter para a BOM SAMARITANO, instituição de apoio a crianças.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1080" y="1717560"/>
            <a:ext cx="1923840" cy="127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5DE7A-52C6-408D-BE2E-5479BBD4CF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549360"/>
            <a:ext cx="234000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484360" y="44280"/>
            <a:ext cx="665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3366"/>
                </a:solidFill>
                <a:latin typeface="Calibri"/>
              </a:rPr>
              <a:t>RESPONSABILIDADE SOCIAL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556000" y="1052640"/>
            <a:ext cx="640872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Importante contribuição de todos intervenientes (CMP, Concorrentes, Patrocinadores, Media e Público) para programas de apoio aos mais variados sectores da socieda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cções de Marketing Social que valorizam a participação dos patrocinadores, através de realização de desfiles (por ex.) de Ferrari, cuja receita reverterá a favor de uma Instituição de Solidariedade Social – a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BOM SAMARITANO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, entidade algarvia de apoio a crianças desfavorecidas, filiada à Fundação Sueca com o mesmo no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No final dos anos oitenta, a Câmara Municipal de Portimão cedeu à Fundação um terreno para o "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Lar de Crianças Bom Samaritano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“, inaugurado em 1988.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57360"/>
            <a:ext cx="2268360" cy="37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1f497d"/>
                </a:solidFill>
                <a:latin typeface="Arial"/>
                <a:ea typeface="Arial"/>
              </a:rPr>
              <a:t>Este evento, pela forma como está concebido, servirá de exemplo para a realização de acções sociai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4811760"/>
            <a:ext cx="1979640" cy="136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DB5C-C79E-40BF-BA1D-539803A6CD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646-1223"/>
          <p:cNvPicPr/>
          <p:nvPr/>
        </p:nvPicPr>
        <p:blipFill>
          <a:blip r:embed="rId1"/>
          <a:stretch/>
        </p:blipFill>
        <p:spPr>
          <a:xfrm>
            <a:off x="179280" y="947880"/>
            <a:ext cx="1908360" cy="126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7" descr="IMG_0884"/>
          <p:cNvPicPr/>
          <p:nvPr/>
        </p:nvPicPr>
        <p:blipFill>
          <a:blip r:embed="rId2"/>
          <a:stretch/>
        </p:blipFill>
        <p:spPr>
          <a:xfrm>
            <a:off x="179280" y="2660760"/>
            <a:ext cx="1908360" cy="143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Picture 8" descr="646-0470"/>
          <p:cNvPicPr/>
          <p:nvPr/>
        </p:nvPicPr>
        <p:blipFill>
          <a:blip r:embed="rId3"/>
          <a:stretch/>
        </p:blipFill>
        <p:spPr>
          <a:xfrm>
            <a:off x="179280" y="4608360"/>
            <a:ext cx="1908360" cy="12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Rectangle 3"/>
          <p:cNvSpPr/>
          <p:nvPr/>
        </p:nvSpPr>
        <p:spPr>
          <a:xfrm>
            <a:off x="2484360" y="1054080"/>
            <a:ext cx="6410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Paddock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-  o coração das corridas, perto da emoção das boxes – os bastidores do evento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llage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– Por excelência a área social e comercial do event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P VILLAGE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P LOU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P RESTAUR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oldos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para carros históricos e clássic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2484360" y="0"/>
            <a:ext cx="6659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3366"/>
                </a:solidFill>
                <a:latin typeface="Calibri"/>
              </a:rPr>
              <a:t>OS ESPAÇ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973240" y="3355920"/>
            <a:ext cx="5472360" cy="33498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6299280" y="3141720"/>
            <a:ext cx="2736720" cy="1726920"/>
            <a:chOff x="6299280" y="3141720"/>
            <a:chExt cx="2736720" cy="1726920"/>
          </a:xfrm>
        </p:grpSpPr>
        <p:sp>
          <p:nvSpPr>
            <p:cNvPr id="100" name=""/>
            <p:cNvSpPr/>
            <p:nvPr/>
          </p:nvSpPr>
          <p:spPr>
            <a:xfrm>
              <a:off x="6299280" y="3141720"/>
              <a:ext cx="2736720" cy="1726920"/>
            </a:xfrm>
            <a:prstGeom prst="downArrowCallout">
              <a:avLst>
                <a:gd name="adj1" fmla="val 39622"/>
                <a:gd name="adj2" fmla="val 39619"/>
                <a:gd name="adj3" fmla="val 16667"/>
                <a:gd name="adj4" fmla="val 6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Não perca </a:t>
              </a: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3 volt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na nova pista de F1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16720" y="3359160"/>
              <a:ext cx="1800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E8E7-D48B-468E-BEC0-D2DA3D53C9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2205000"/>
            <a:ext cx="4895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O Algarve é um destino turístico com uma forte imagem internacional, devida às condições climáticas amenas, praias de areia branca, hospitalidade da população local e cozinha fabulos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Há também disponível uma vasta escolha de actividade e lazer no Algarve, incluindo pesca desportiva, desportos náuticos, vela, equitação e golfe, que é um dos desportos com a maior propagação e desenvolvimento no Algarve, atraindo milhares de golfistas, por ano, de todo o mundo. 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Planeie a sua viagem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276720" y="1052640"/>
            <a:ext cx="4535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ITO MAIS QUE UM EVENTO AUTOMOBILÍSTIC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92A7-BA5F-407F-98B4-4FD41509F2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0" y="0"/>
            <a:ext cx="2914920" cy="2190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948120"/>
            <a:ext cx="2914560" cy="2924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2165400"/>
            <a:ext cx="2914560" cy="1933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867040" y="0"/>
            <a:ext cx="3289320" cy="219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2857680" y="2162160"/>
            <a:ext cx="3298680" cy="2728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843280" y="4883040"/>
            <a:ext cx="3313080" cy="1989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6153120" y="0"/>
            <a:ext cx="2990880" cy="23241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6153120" y="2171880"/>
            <a:ext cx="2990880" cy="4686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2EFF-360D-4FBD-AF26-2AE3C5A0FC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17:50:53Z</dcterms:created>
  <dc:creator>Windows User</dc:creator>
  <dc:description/>
  <dc:language>en-US</dc:language>
  <cp:lastModifiedBy>fsantos</cp:lastModifiedBy>
  <dcterms:modified xsi:type="dcterms:W3CDTF">2009-07-08T10:02:30Z</dcterms:modified>
  <cp:revision>176</cp:revision>
  <dc:subject/>
  <dc:title>Diapositivo 1</dc:title>
</cp:coreProperties>
</file>