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0.jpeg" ContentType="image/jpeg"/>
  <Override PartName="/ppt/media/image24.jpeg" ContentType="image/jpeg"/>
  <Override PartName="/ppt/media/wind.wav" ContentType="audio/x-wav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4F4AA7-A52A-4A5A-BA6A-F6998A6C090E}" type="datetime">
              <a:rPr b="0" lang="pt-PT" sz="12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402120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35275E3-3AC5-4A8B-B436-09A97C141450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BDB317B-32FD-43FF-AAE8-92D4304DB4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EF09025-6810-48D7-B2EA-78D07B14D2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72A2B41-E253-40B7-A276-F25A5B4A19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7C415C8-75B6-4E08-885D-2793A10938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0954ABA-EA85-4A0C-BBDB-FFC5DDF401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Marcador de Posição do Número do Diapositivo 3"/>
          <p:cNvSpPr/>
          <p:nvPr/>
        </p:nvSpPr>
        <p:spPr>
          <a:xfrm>
            <a:off x="402120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EBD54B-6788-48FC-A583-60BC1B03531E}" type="slidenum">
              <a:rPr b="0" lang="pt-P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Marcador de Posição do Número do Diapositivo 3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072726-EAEE-4F90-B5EF-BABB90446285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Marcador de Posição do Número do Diapositivo 3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C3B1A01-D013-42D0-839A-9C38CE1F0956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DC2F-FD41-47F5-AB17-9884E217A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2379-35FF-4CD2-9ACB-29F02F526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8EEB-5CE4-4D3E-A46C-FFB5D762F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E22F-EA59-4985-9937-6442E9AEC6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54B3-89E5-48A9-B984-9D85BEAF28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B105-D54D-4A01-B19C-7E107CDD8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AEEC-F846-4422-93DA-6AEE0ACFF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A51C-036F-4C51-94DD-C3CAE1F0C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EE4A-59CA-4871-B15B-B1EA0CB5F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27A1-2A03-48CB-9F0D-F358205BC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65AD-F753-43FC-96E1-AEF4675AE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CCF7-F3C6-4A92-AF65-6C483921A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9280" y="6597360"/>
            <a:ext cx="684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BA26-9770-40D3-B546-481E5442E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fseventos.pt/" TargetMode="External"/><Relationship Id="rId3" Type="http://schemas.openxmlformats.org/officeDocument/2006/relationships/hyperlink" Target="http://www.portimar.pt/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hyperlink" Target="http://www.fseventos.pt/" TargetMode="Externa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72320" y="6424560"/>
            <a:ext cx="392040" cy="40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5280" y="6396120"/>
            <a:ext cx="1368360" cy="46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698920" y="6399360"/>
            <a:ext cx="1152360" cy="452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913520" y="6391440"/>
            <a:ext cx="762120" cy="477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1440"/>
            <a:ext cx="8642160" cy="14828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50920" y="0"/>
            <a:ext cx="2017440" cy="14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2340000" y="797040"/>
            <a:ext cx="64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vantGarde"/>
              </a:rPr>
              <a:t>Autódromo Internacional do Algar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vantGarde"/>
              </a:rPr>
              <a:t>16-18 Outubro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268360" y="0"/>
            <a:ext cx="655344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vantGarde"/>
              </a:rPr>
              <a:t>Ferrari, Maserati e Os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vantGarde"/>
              </a:rPr>
              <a:t>EUROPEAN CHARITY PA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4645080" y="6423120"/>
            <a:ext cx="934920" cy="40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22CA-E000-485B-8DD0-79D30CE124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86160" y="2565360"/>
            <a:ext cx="417168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620640"/>
            <a:ext cx="8785440" cy="575964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5084640"/>
            <a:ext cx="23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  <a:ea typeface="Arial"/>
              </a:rPr>
              <a:t>OFFICIAL TRAVEL AG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0" y="3283200"/>
            <a:ext cx="91440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FranciscoSantos Eventos, Unipessoal L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Rua das Acácias, 140 - 1º  2750-602 Cascais – Portug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Tel./Fax: (+351) 21 484 4535 | Mobile: (+351) 92 794 3494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franciscosantos@fseventos.pt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fseventos.pt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 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5300640"/>
            <a:ext cx="62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PORTIMAR - Agência de Viagens e Turismo, Ld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Edificio Portimar, Alto do Quintão. 8500-833 Portimão // Portugal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Tel.: +351 282 470 018 | Fax: +351 282 470 051 | </a:t>
            </a:r>
            <a:r>
              <a:rPr b="0" lang="pt-PT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www.portimar.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39840" y="5064120"/>
            <a:ext cx="2019240" cy="8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EAB8-27D2-4D76-95DD-C0B8712441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188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284328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2843280" cy="1816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841480" y="1989000"/>
            <a:ext cx="3025800" cy="2013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0" y="5316480"/>
            <a:ext cx="2843280" cy="1484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5867280" y="4292640"/>
            <a:ext cx="3276720" cy="217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5867280" y="0"/>
            <a:ext cx="3276720" cy="2176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867280" y="2133720"/>
            <a:ext cx="3276720" cy="2181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2843280" y="0"/>
            <a:ext cx="3024000" cy="201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2843280" y="4005360"/>
            <a:ext cx="3024000" cy="2400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8244000" y="6394320"/>
            <a:ext cx="649080" cy="473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6524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508800"/>
            <a:ext cx="77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Visite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2"/>
              </a:rPr>
              <a:t>http://www.fseventos.pt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e entre na secção de Event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2C61-F3F6-4D32-A18E-28B98FEBCC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1"/>
          <p:cNvSpPr/>
          <p:nvPr/>
        </p:nvSpPr>
        <p:spPr>
          <a:xfrm>
            <a:off x="2484360" y="320760"/>
            <a:ext cx="6410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f497d"/>
                </a:solidFill>
                <a:latin typeface="Arial"/>
                <a:ea typeface="Arial"/>
              </a:rPr>
              <a:t>UM PROGRAMA EXTENS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Clássicos de excelência. Pilotos de referê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1150920"/>
            <a:ext cx="6264360" cy="51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O Algarve Historic Festival pretende ser uma referência nacional e internacional nos eventos de automobilism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Esta é a primeira edição do evento no novo circuito português – Autódromo Internacional do Algarve.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O programa inclui 16 corridas e 12 categorias de carros de competição clássicos e históricos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HGPCA: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Pre-1961and Pre-1966 F1, BRDC/HGPCA Sports Ca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otor Racing Legends: 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re-War GP Car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The Masters Series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Grand Prix Masters, World Sportscar Masters, Sports Racing Masters, Gentlemen Drivers GT &amp; Sport, Pre-66 Saloons, Touring ’70s, Proto ’70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Formula Junior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Lurani Formula Junio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Ferrari, Maserati, Osca European Charity Parade: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Desfile internacional com carros de proprietários portugueses, espanhóis e da Europa no geral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atronos – Maria Teresa de Filippis e Ing. Alfieri Masera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INI 50 Year Commemoration Charity Parade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roprietários de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inis de provenientes de toda a Europa experimentarão a nova pista, no Algarve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Apoio a um Instituição de Solidariedade Social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Doação de parte da receita gerada pelas inscrições nos desfi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49360"/>
            <a:ext cx="2341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1771560" cy="1173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90640" cy="118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50920" y="4581360"/>
            <a:ext cx="1800000" cy="119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4998-AAEB-4526-8B0F-C51A2E0817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1"/>
          <p:cNvSpPr/>
          <p:nvPr/>
        </p:nvSpPr>
        <p:spPr>
          <a:xfrm>
            <a:off x="2484360" y="307800"/>
            <a:ext cx="64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PROGRAMA PROVISÓ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9360"/>
            <a:ext cx="2341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9440" y="1843200"/>
            <a:ext cx="2105280" cy="3171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171960" y="765000"/>
            <a:ext cx="4789440" cy="604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0754-D224-4C79-A66B-1B67CA401D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49360"/>
            <a:ext cx="2341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484360" y="307800"/>
            <a:ext cx="64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PROGRAMA DO CHARITY P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(Desfi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-36360" y="752400"/>
            <a:ext cx="2520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ERRARI, MASERATI, OSCA EUROPEAN CHARITY PA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4149720"/>
            <a:ext cx="1944720" cy="1297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84360" y="1125360"/>
            <a:ext cx="6659640" cy="52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. CARROS ADMITIDOS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odelos Ferrari e Maserati  de qualquer an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2. PATRONOS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aria Teresa de Filippis e Ing. Alfieri Masera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3.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ROGRAM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Domingo 18 Out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1.30h – Concentração no Paddock do A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2.55h – Desfile com três voltas na pist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3.45h – Almoço e Entrega de prémios – VIP Loung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Opcional (a reservar com a Portimar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Sexta 16 Out: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Estadia no Hotel e tour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Sábado 17 Out: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6.00h – Concentração em Portim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20.00h – Jantar com espectáculo – Casi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4. TAXA DE INSCRIÇÃO – € 19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Inclui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laca do des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Dois passes de fim-de-semana: Paddock e Bancada V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Estacionamento dedicado no Paddo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Dois almoços no Domingo, no VIP Lou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rémios e lembranç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Três voltas na pista do Autódromo de Portim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Contribuição beneficente de € 50 a reverter para a BOM SAMARITANO, instituição de apoio a crianças.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1080" y="1717560"/>
            <a:ext cx="1923840" cy="127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FF9F-A1E1-4F17-A39E-56426159C9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49360"/>
            <a:ext cx="234000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484360" y="44280"/>
            <a:ext cx="665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3366"/>
                </a:solidFill>
                <a:latin typeface="Calibri"/>
              </a:rPr>
              <a:t>RESPONSABILIDADE SOCIAL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556000" y="1052640"/>
            <a:ext cx="640872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Importante contribuição de todos intervenientes (CMP, Concorrentes, Patrocinadores, Media e Público) para programas de apoio aos mais variados sectores da socieda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cções de Marketing Social que valorizam a participação dos patrocinadores, através de realização de desfiles (por ex.) de Ferrari, cuja receita reverterá a favor de uma Instituição de Solidariedade Social – a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BOM SAMARITANO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, entidade algarvia de apoio a crianças desfavorecidas, filiada à Fundação Sueca com o mesmo no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No final dos anos oitenta, a Câmara Municipal de Portimão cedeu à Fundação um terreno para o "</a:t>
            </a: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Lar de Crianças Bom Samaritano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“, inaugurado em 1988.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557360"/>
            <a:ext cx="2268360" cy="37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1f497d"/>
                </a:solidFill>
                <a:latin typeface="Arial"/>
                <a:ea typeface="Arial"/>
              </a:rPr>
              <a:t>Este evento, pela forma como está concebido, servirá de exemplo para a realização de acções sociai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4811760"/>
            <a:ext cx="1979640" cy="136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92AE-4EDA-421D-BE7C-655627524E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549360"/>
            <a:ext cx="2341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646-1223"/>
          <p:cNvPicPr/>
          <p:nvPr/>
        </p:nvPicPr>
        <p:blipFill>
          <a:blip r:embed="rId1"/>
          <a:stretch/>
        </p:blipFill>
        <p:spPr>
          <a:xfrm>
            <a:off x="179280" y="947880"/>
            <a:ext cx="1908360" cy="1266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Picture 7" descr="IMG_0884"/>
          <p:cNvPicPr/>
          <p:nvPr/>
        </p:nvPicPr>
        <p:blipFill>
          <a:blip r:embed="rId2"/>
          <a:stretch/>
        </p:blipFill>
        <p:spPr>
          <a:xfrm>
            <a:off x="179280" y="2660760"/>
            <a:ext cx="1908360" cy="143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Picture 8" descr="646-0470"/>
          <p:cNvPicPr/>
          <p:nvPr/>
        </p:nvPicPr>
        <p:blipFill>
          <a:blip r:embed="rId3"/>
          <a:stretch/>
        </p:blipFill>
        <p:spPr>
          <a:xfrm>
            <a:off x="179280" y="4608360"/>
            <a:ext cx="1908360" cy="12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Rectangle 3"/>
          <p:cNvSpPr/>
          <p:nvPr/>
        </p:nvSpPr>
        <p:spPr>
          <a:xfrm>
            <a:off x="2484360" y="1054080"/>
            <a:ext cx="64105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Paddock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-  o coração das corridas, perto da emoção das boxes – os bastidores do evento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Village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– Por excelência a área social e comercial do event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VIP VILLAGE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VIP LOU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VIP RESTAURA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Toldos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para carros históricos e clássic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484360" y="0"/>
            <a:ext cx="6659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3366"/>
                </a:solidFill>
                <a:latin typeface="Calibri"/>
              </a:rPr>
              <a:t>OS ESPAÇ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973240" y="3355920"/>
            <a:ext cx="5472360" cy="33498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6299280" y="3141720"/>
            <a:ext cx="2736720" cy="1726920"/>
            <a:chOff x="6299280" y="3141720"/>
            <a:chExt cx="2736720" cy="1726920"/>
          </a:xfrm>
        </p:grpSpPr>
        <p:sp>
          <p:nvSpPr>
            <p:cNvPr id="100" name=""/>
            <p:cNvSpPr/>
            <p:nvPr/>
          </p:nvSpPr>
          <p:spPr>
            <a:xfrm>
              <a:off x="6299280" y="3141720"/>
              <a:ext cx="2736720" cy="1726920"/>
            </a:xfrm>
            <a:prstGeom prst="downArrowCallout">
              <a:avLst>
                <a:gd name="adj1" fmla="val 39622"/>
                <a:gd name="adj2" fmla="val 39619"/>
                <a:gd name="adj3" fmla="val 16667"/>
                <a:gd name="adj4" fmla="val 6666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Não perca </a:t>
              </a: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3 volt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na nova pista de F1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16720" y="3359160"/>
              <a:ext cx="1800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C7FA-DD9F-4B26-8BFA-03B1272809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2205000"/>
            <a:ext cx="4895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O Algarve é um destino turístico com uma forte imagem internacional, devida às condições climáticas amenas, praias de areia branca, hospitalidade da população local e cozinha fabulos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Há também disponível uma vasta escolha de actividade e lazer no Algarve, incluindo pesca desportiva, desportos náuticos, vela, equitação e golfe, que é um dos desportos com a maior propagação e desenvolvimento no Algarve, atraindo milhares de golfistas, por ano, de todo o mundo. 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Planeie a sua viagem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276720" y="1052640"/>
            <a:ext cx="4535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ITO MAIS QUE UM EVENTO AUTOMOBILÍSTICO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DCF8-0F83-44F1-B906-1D58763B33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2914920" cy="219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948120"/>
            <a:ext cx="2914560" cy="2924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2165400"/>
            <a:ext cx="2914560" cy="1933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67040" y="0"/>
            <a:ext cx="3289320" cy="219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857680" y="2162160"/>
            <a:ext cx="3298680" cy="2728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843280" y="4883040"/>
            <a:ext cx="3313080" cy="1989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153120" y="0"/>
            <a:ext cx="2990880" cy="2324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6153120" y="2171880"/>
            <a:ext cx="2990880" cy="468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8CED-6A50-4089-806E-6891374700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17:50:53Z</dcterms:created>
  <dc:creator>Windows User</dc:creator>
  <dc:description/>
  <dc:language>en-US</dc:language>
  <cp:lastModifiedBy>fsantos</cp:lastModifiedBy>
  <dcterms:modified xsi:type="dcterms:W3CDTF">2009-07-08T10:02:30Z</dcterms:modified>
  <cp:revision>176</cp:revision>
  <dc:subject/>
  <dc:title>Diapositivo 1</dc:title>
</cp:coreProperties>
</file>