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0.jpeg" ContentType="image/jpeg"/>
  <Override PartName="/ppt/media/image19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27.jpeg" ContentType="image/jpeg"/>
  <Override PartName="/ppt/media/image33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wind.wav" ContentType="audio/x-wav"/>
  <Override PartName="/ppt/media/image30.jpeg" ContentType="image/jpeg"/>
  <Override PartName="/ppt/media/image24.jpeg" ContentType="image/jpeg"/>
  <Override PartName="/ppt/media/image31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3090222-ECFC-46C8-A1DA-EBC8450136D1}" type="datetime">
              <a:rPr b="0" lang="pt-PT" sz="1200" spc="-1" strike="noStrike">
                <a:solidFill>
                  <a:srgbClr val="000000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402120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B95DFC0-B11A-4647-B1F5-8067AD607499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00CB6D4-9F2E-4219-B4F3-11D4902596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0725835-66E6-4415-8241-3A90A8AAFF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FB86998-3BAF-4C67-8EAF-94BA9520C3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D1BC44C-BFD2-4F77-8280-1FF86BCA88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701351D-90FB-4AD1-A670-ABD9AEE740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Marcador de Posição do Número do Diapositivo 3"/>
          <p:cNvSpPr/>
          <p:nvPr/>
        </p:nvSpPr>
        <p:spPr>
          <a:xfrm>
            <a:off x="4021200" y="972180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0F4C363-045B-4639-8739-010E6A68AB10}" type="slidenum">
              <a:rPr b="0" lang="pt-PT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Marcador de Posição do Número do Diapositivo 3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1EA7597-C16D-4A5A-B700-FCBEC883A42C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Marcador de Posição do Número do Diapositivo 3"/>
          <p:cNvSpPr/>
          <p:nvPr/>
        </p:nvSpPr>
        <p:spPr>
          <a:xfrm>
            <a:off x="402120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69B9B75-7779-4096-8BC6-59A191C84D37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D182-2763-4F7F-8AF9-A20A0D5CD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24638-63E7-41D8-A25A-6AB6C1D2A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1C2D-6952-4EAF-A21E-FD6138838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9162-FA84-48D1-A2EB-5AE117A9E1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D23E8-2324-488E-BA65-A22458174A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3FB05-94F3-46CD-BB29-1559938821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5E98-5B9D-4EE6-B16B-9C3E7C551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950BB-EEB5-400A-9F45-EFF9D55FA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4605-ED36-48CC-BA42-770F2EF17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1FA90-F290-4388-BB48-A472F04B3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FBA2-BB5B-4C95-A54F-8E8A66B8A0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40E5-6CF2-40D8-8585-39D9B217EC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9280" y="6597360"/>
            <a:ext cx="684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9207-1E06-474C-9A81-4FC3B0D66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fseventos.pt/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audio" Target="../media/win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772320" y="6424560"/>
            <a:ext cx="392040" cy="405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5280" y="6396120"/>
            <a:ext cx="1368360" cy="461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0" t="0" r="0" b="2816"/>
          <a:stretch/>
        </p:blipFill>
        <p:spPr>
          <a:xfrm>
            <a:off x="2771640" y="6418440"/>
            <a:ext cx="1152720" cy="439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rcRect l="0" t="0" r="0" b="2325"/>
          <a:stretch/>
        </p:blipFill>
        <p:spPr>
          <a:xfrm>
            <a:off x="7913520" y="6391440"/>
            <a:ext cx="762120" cy="466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1440"/>
            <a:ext cx="8642160" cy="14828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50920" y="0"/>
            <a:ext cx="2017440" cy="1471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2411280" y="846000"/>
            <a:ext cx="648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vantGarde"/>
              </a:rPr>
              <a:t>Autódromo Internacional do Algar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AvantGarde"/>
              </a:rPr>
              <a:t>16-18 Outubro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2556000" y="4428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vantGarde"/>
                <a:ea typeface="Arial"/>
              </a:rPr>
              <a:t>MINI 50 YEAR COMMEMORATION CHARITY PAR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5006880" y="6404040"/>
            <a:ext cx="933480" cy="4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4121-B205-487E-A1ED-BEBD3640CD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86160" y="2598840"/>
            <a:ext cx="4171680" cy="685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9280" y="549360"/>
            <a:ext cx="878544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0" y="3395880"/>
            <a:ext cx="9144000" cy="11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FranciscoSantos Eventos, Unipessoal Ld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Rua das Acácias, 140 - 1º  2750-602 Cascais – Portug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Tel./Fax: (+351) 21 484 4535 | Mobile: (+351) 92 794 3494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franciscosantos@fseventos.pt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fseventos.pt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    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5084640"/>
            <a:ext cx="230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Black"/>
                <a:ea typeface="Arial"/>
              </a:rPr>
              <a:t>OFFICIAL TRAVEL AG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5300640"/>
            <a:ext cx="626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PORTIMAR - Agência de Viagens e Turismo, Ld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Edificio Portimar, Alto do Quintão. 8500-833 Portimão // Portugal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Arial"/>
                <a:ea typeface="Arial"/>
              </a:rPr>
              <a:t>Tel.: +351 282 470 018 | Fax: +351 282 470 051 | www.portimar.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04920" y="5084640"/>
            <a:ext cx="2019240" cy="88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4BC1-C9D4-42A0-AFD3-797FC7C05C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168800"/>
            <a:ext cx="2916360" cy="1719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987640" cy="1992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867280" y="0"/>
            <a:ext cx="3276720" cy="2184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5867280" y="2133720"/>
            <a:ext cx="3276720" cy="2184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2916360" y="0"/>
            <a:ext cx="2950920" cy="1968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5867280" y="4292640"/>
            <a:ext cx="3276720" cy="192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2916360" y="1916280"/>
            <a:ext cx="2950920" cy="1917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2916360" y="3789360"/>
            <a:ext cx="2950920" cy="2212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5877000"/>
            <a:ext cx="914400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0"/>
          <a:stretch/>
        </p:blipFill>
        <p:spPr>
          <a:xfrm>
            <a:off x="7759800" y="5967360"/>
            <a:ext cx="1116000" cy="812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9280" y="6292800"/>
            <a:ext cx="770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Visite  http://www.fseventos.pt/ e entre na secção de Evento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FE804-1560-4E9D-AFCC-CBDE051C0E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549360"/>
            <a:ext cx="234144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4743360"/>
            <a:ext cx="1800000" cy="1062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1800000" cy="1057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0920" y="2924280"/>
            <a:ext cx="1800000" cy="1197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"/>
          <p:cNvSpPr/>
          <p:nvPr/>
        </p:nvSpPr>
        <p:spPr>
          <a:xfrm>
            <a:off x="2484360" y="189000"/>
            <a:ext cx="6410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f497d"/>
                </a:solidFill>
                <a:latin typeface="Arial"/>
                <a:ea typeface="Arial"/>
              </a:rPr>
              <a:t>UM PROGRAMA EXTENS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  <a:ea typeface="Arial"/>
              </a:rPr>
              <a:t>Clássicos de excelência. Pilotos de referênci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1150920"/>
            <a:ext cx="6264360" cy="51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O Algarve Historic Festival pretende ser uma referência nacional e internacional nos eventos de automobilism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Esta é a primeira edição do evento no novo circuito português – Autódromo Internacional do Algarve.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O programa inclui 16 corridas e 12 categorias de carros de competição clássicos e históricos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HGPCA: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Pre-1961and Pre-1966 F1, BRDC/HGPCA Sports Ca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Motor Racing Legends: 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re-War GP Car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The Masters Series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Grand Prix Masters, World Sportscar Masters, Sports Racing Masters, Gentlemen Drivers GT &amp; Sport, Pre-66 Saloons, Touring ’70s, Proto ’70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Formula Junior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Lurani Formula Junio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Ferrari, Maserati, Osca European Charity Parade: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Desfile internacional com carros de proprietários portugueses, espanhóis e da Europa no geral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atronos – Maria Teresa de Filippis e Ing. Alfieri Masera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MINI 50 Year Commemoration Charity Parade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roprietários de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Minis de provenientes de toda a Europa experimentarão a nova pista, no Algarve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Apoio a um Instituição de Solidariedade Social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Doação de parte da receita gerada pelas inscrições nos desfil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C240-21CC-4680-A7AD-DD48EA924D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1"/>
          <p:cNvSpPr/>
          <p:nvPr/>
        </p:nvSpPr>
        <p:spPr>
          <a:xfrm>
            <a:off x="2484360" y="115920"/>
            <a:ext cx="64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PROGRAMA PROVISÓ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0" y="549360"/>
            <a:ext cx="234144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9440" y="1843200"/>
            <a:ext cx="2105280" cy="3171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03640" y="614520"/>
            <a:ext cx="4908600" cy="6199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0B56-9B32-4951-9AC6-7B82F9084C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49360"/>
            <a:ext cx="234144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2484360" y="307800"/>
            <a:ext cx="64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CHARITY PARADE PROGRAM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(Desfi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-36360" y="752400"/>
            <a:ext cx="26636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INI 50 YEAR COMMEMORATION CHARITY PARAD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1944720" cy="1297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484360" y="1163520"/>
            <a:ext cx="665964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. CARROS ADMITIDOS: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Modelos Mini  de qualquer an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2.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ROGRAMA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Sábado 17 Out: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1.30h – Concentração no Paddock do A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2.35h – Desfile com três voltas na pist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3.45h – Almoço e Entrega de prémios – VIP Loung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Opcional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Sexta 16 Out: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Estadia no Hotel e tours (a reservar com a Portimar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Sábado 17 Out: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16.00h – Concentração em Portimã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4. TAXA DE INSCRIÇÃO: PACOTE BÁSICO - € 95,00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Inclui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laca do des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Dois passes de fim-de-semana: Paddoc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Estacionamento dedicado no Paddoc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Prémios e lembranç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Três voltas na pista do Autódromo de Portimã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146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Contribuição beneficente a reverter para a BOM SAMARITANO, instituição de  apoio a crianças.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5. PACOTE ALTERNATIVO – € 195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  <a:ea typeface="Arial"/>
              </a:rPr>
              <a:t>Inclui os mesmo itens que o Pacote Básico à excepção dos bilhetes, que neste caso são dois bilhetes VIP com acesso ao Paddock e à bancada VIP, dois almoços no Sábado no VIP Lounge e uma contribuição maior para a BOM SAMARITAN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1720" y="4944960"/>
            <a:ext cx="712800" cy="1150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9280" y="1628640"/>
            <a:ext cx="1944720" cy="115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0E0B-8CBE-4B25-9389-D7EF2D2B56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549360"/>
            <a:ext cx="234000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484360" y="44280"/>
            <a:ext cx="6659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3366"/>
                </a:solidFill>
                <a:latin typeface="Calibri"/>
              </a:rPr>
              <a:t>RESPONSABILIDADE SOCIAL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56000" y="1052640"/>
            <a:ext cx="640872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Importante contribuição de todos intervenientes (CMP, Concorrentes, Patrocinadores, Media e Público) para programas de apoio aos mais variados sectores da sociedad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Acções de Marketing Social que valorizam a participação dos patrocinadores, através de realização de desfiles (por ex.) de Ferrari, cuja receita reverterá a favor de uma Instituição de Solidariedade Social – a </a:t>
            </a: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BOM SAMARITANO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, entidade algarvia de apoio a crianças desfavorecidas, filiada à Fundação Sueca com o mesmo no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No final dos anos oitenta, a Câmara Municipal de Portimão cedeu à Fundação um terreno para o "</a:t>
            </a: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Lar de Crianças Bom Samaritano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“, inaugurado em 1988.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557360"/>
            <a:ext cx="2268360" cy="37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1f497d"/>
                </a:solidFill>
                <a:latin typeface="Arial"/>
                <a:ea typeface="Arial"/>
              </a:rPr>
              <a:t>Este evento, pela forma como está concebido, servirá de exemplo para a realização de acções sociai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9280" y="4811760"/>
            <a:ext cx="1979640" cy="136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C5BA0-A6E0-4959-8747-AC2F7813B4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49360"/>
            <a:ext cx="2341440" cy="5759280"/>
          </a:xfrm>
          <a:prstGeom prst="rect">
            <a:avLst/>
          </a:prstGeom>
          <a:solidFill>
            <a:srgbClr val="4f81b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646-1223"/>
          <p:cNvPicPr/>
          <p:nvPr/>
        </p:nvPicPr>
        <p:blipFill>
          <a:blip r:embed="rId1"/>
          <a:stretch/>
        </p:blipFill>
        <p:spPr>
          <a:xfrm>
            <a:off x="179280" y="947880"/>
            <a:ext cx="1908360" cy="1266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7" descr="IMG_0884"/>
          <p:cNvPicPr/>
          <p:nvPr/>
        </p:nvPicPr>
        <p:blipFill>
          <a:blip r:embed="rId2"/>
          <a:stretch/>
        </p:blipFill>
        <p:spPr>
          <a:xfrm>
            <a:off x="179280" y="2660760"/>
            <a:ext cx="1908360" cy="143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4" name="Picture 8" descr="646-0470"/>
          <p:cNvPicPr/>
          <p:nvPr/>
        </p:nvPicPr>
        <p:blipFill>
          <a:blip r:embed="rId3"/>
          <a:stretch/>
        </p:blipFill>
        <p:spPr>
          <a:xfrm>
            <a:off x="179280" y="4608360"/>
            <a:ext cx="1908360" cy="126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987640" y="3068640"/>
            <a:ext cx="5472000" cy="3349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2484360" y="0"/>
            <a:ext cx="665964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3366"/>
                </a:solidFill>
                <a:latin typeface="Calibri"/>
              </a:rPr>
              <a:t>OS ESPAÇO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484360" y="1054080"/>
            <a:ext cx="64105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Paddock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-  o coração das corridas, perto da emoção das boxes – os bastidores do evento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Village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– Por excelência a área social e comercial do evento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VIP VILLAGE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VIP LOU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VIP RESTAURA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Toldos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para carros históricos e clássic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299280" y="3068640"/>
            <a:ext cx="2736720" cy="1726920"/>
            <a:chOff x="6299280" y="3068640"/>
            <a:chExt cx="2736720" cy="1726920"/>
          </a:xfrm>
        </p:grpSpPr>
        <p:sp>
          <p:nvSpPr>
            <p:cNvPr id="99" name=""/>
            <p:cNvSpPr/>
            <p:nvPr/>
          </p:nvSpPr>
          <p:spPr>
            <a:xfrm>
              <a:off x="6299280" y="3068640"/>
              <a:ext cx="2736720" cy="1726920"/>
            </a:xfrm>
            <a:prstGeom prst="downArrowCallout">
              <a:avLst>
                <a:gd name="adj1" fmla="val 39622"/>
                <a:gd name="adj2" fmla="val 39619"/>
                <a:gd name="adj3" fmla="val 16667"/>
                <a:gd name="adj4" fmla="val 66667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Não perca </a:t>
              </a:r>
              <a:r>
                <a:rPr b="1" lang="en-US" sz="1800" spc="-1" strike="noStrike" u="sng">
                  <a:solidFill>
                    <a:srgbClr val="ffff00"/>
                  </a:solidFill>
                  <a:uFillTx/>
                  <a:latin typeface="Arial"/>
                  <a:ea typeface="Arial"/>
                </a:rPr>
                <a:t>3 volta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  <a:ea typeface="Arial"/>
                </a:rPr>
                <a:t>na nova pista de F1!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16720" y="3286080"/>
              <a:ext cx="1800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9C15-8BA5-41DA-BD78-F7BF237012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03640" y="2205000"/>
            <a:ext cx="4895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O Algarve é um destino turístico com uma forte imagem internacional, devida às condições climáticas amenas, praias de areia branca, hospitalidade da população local e cozinha fabulos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Há também disponível uma vasta escolha de actividade e lazer no Algarve, incluindo pesca desportiva, desportos náuticos, vela, equitação e golfe, que é um dos desportos com a maior propagação e desenvolvimento no Algarve, atraindo milhares de golfistas, por ano, de todo o mundo. 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  <a:ea typeface="Arial"/>
              </a:rPr>
              <a:t>Planeie a sua viagem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3203640" y="1052640"/>
            <a:ext cx="453528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ITO MAIS QUE UM EVENTO AUTOMOBILÍSTICO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3E68-827F-45EF-9803-2CC961F748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21347" r="49679" b="0"/>
          <a:stretch/>
        </p:blipFill>
        <p:spPr>
          <a:xfrm>
            <a:off x="0" y="3948120"/>
            <a:ext cx="2916360" cy="2924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2158920"/>
            <a:ext cx="2916360" cy="1936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156360" y="0"/>
            <a:ext cx="2987640" cy="2319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867040" y="0"/>
            <a:ext cx="3289320" cy="2190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2857680" y="2162160"/>
            <a:ext cx="3298680" cy="2728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6"/>
          <a:stretch/>
        </p:blipFill>
        <p:spPr>
          <a:xfrm>
            <a:off x="2843280" y="4883040"/>
            <a:ext cx="3313080" cy="1989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8"/>
          <a:stretch/>
        </p:blipFill>
        <p:spPr>
          <a:xfrm>
            <a:off x="6156360" y="2170080"/>
            <a:ext cx="2987640" cy="468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7457-D81E-4382-BA75-F55CE59E22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17:50:53Z</dcterms:created>
  <dc:creator>Windows User</dc:creator>
  <dc:description/>
  <dc:language>en-US</dc:language>
  <cp:lastModifiedBy>saral</cp:lastModifiedBy>
  <dcterms:modified xsi:type="dcterms:W3CDTF">2009-07-08T15:18:39Z</dcterms:modified>
  <cp:revision>178</cp:revision>
  <dc:subject/>
  <dc:title>Diapositivo 1</dc:title>
</cp:coreProperties>
</file>