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wind.wav" ContentType="audio/x-wav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FBEDAD-3984-4ECB-BE54-9BCD8804CB19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2120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DD1CAA-1548-40F1-BE9E-89A3F7EFEC7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D87EA8-C423-433F-A64F-10281DAF50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F512B4-8404-4BB6-8A68-0CE6318DA5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07B505-CE42-4218-BA81-073F4F0DE5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364148-4684-4F23-B42C-B3000DB8CA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E35C79-EC83-4368-9BEB-F0078A3344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Marcador de Posição do Número do Diapositivo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9A7134-B27A-4CE4-ABAD-DF2B5E120546}" type="slidenum">
              <a:rPr b="0" lang="pt-P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29B66C-8BF0-46A2-8B91-B0879EBC386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C2160B-B769-414E-9E46-A0F5AD09F98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33BA-2B0E-4F37-975F-83C382464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D181-B926-43AD-9D81-45AEE7070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9978-2D02-463C-B12A-223737BBF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CA14-6D23-488D-B01C-AA0DD3F70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34FA-3633-45E0-8DBE-CF273AFC3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10D2-5C9E-4BE0-8FDF-AC943D838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AE9B-FF6C-495C-921C-137D06F04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871A-44C2-47DE-9E12-9E85F6862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3F7-1CC1-40A8-96C1-5906633AC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4705-A01D-4B6F-9309-CB7A55BE8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BB51-E31A-4F05-9DF0-E0A343092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6CD7-9AD2-4A98-AB92-E66112193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97360"/>
            <a:ext cx="684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B00-A0C2-41E6-9F44-4CAD2F8D9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fseventos.pt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2320" y="6424560"/>
            <a:ext cx="392040" cy="4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6396120"/>
            <a:ext cx="1368360" cy="4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0" b="2816"/>
          <a:stretch/>
        </p:blipFill>
        <p:spPr>
          <a:xfrm>
            <a:off x="2771640" y="6418440"/>
            <a:ext cx="1152720" cy="43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0" t="0" r="0" b="2325"/>
          <a:stretch/>
        </p:blipFill>
        <p:spPr>
          <a:xfrm>
            <a:off x="7913520" y="639144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440"/>
            <a:ext cx="8642160" cy="1482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50920" y="0"/>
            <a:ext cx="2017440" cy="14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411280" y="8460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Autódromo Internacional do Alga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16-18 Outubro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56000" y="4428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  <a:ea typeface="Arial"/>
              </a:rPr>
              <a:t>MINI 50 YEAR COMMEMORATION CHARITY PA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006880" y="6404040"/>
            <a:ext cx="933480" cy="4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826F-44C3-4BAD-AD7B-E353AA5C35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86160" y="2598840"/>
            <a:ext cx="417168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549360"/>
            <a:ext cx="8785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3395880"/>
            <a:ext cx="9144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 Eventos, Unipessoal L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Rua das Acácias, 140 - 1º  2750-602 Cascais – Portug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el./Fax: (+351) 21 484 4535 | Mobile: (+351) 92 794 3494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@fseventos.pt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fseventos.pt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   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508464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OFFICIAL TRAVEL AG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5300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PORTIMAR - Agência de Viagens e Turismo, L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Edificio Portimar, Alto do Quintão. 8500-833 Portimão // Portugal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Tel.: +351 282 470 018 | Fax: +351 282 470 051 | www.portimar.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4920" y="5084640"/>
            <a:ext cx="201924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EAFC-6F4E-4371-BF2D-9C7A6579E1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68800"/>
            <a:ext cx="2916360" cy="171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867280" y="21337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295092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867280" y="4292640"/>
            <a:ext cx="3276720" cy="192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916360" y="1916280"/>
            <a:ext cx="2950920" cy="19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916360" y="3789360"/>
            <a:ext cx="2950920" cy="221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759800" y="5967360"/>
            <a:ext cx="1116000" cy="81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6292800"/>
            <a:ext cx="77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isite  http://www.fseventos.pt/ e entre na secção de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55EB-CFA2-4258-BB38-3EF78F009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743360"/>
            <a:ext cx="1800000" cy="10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80000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1800000" cy="1197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2484360" y="189000"/>
            <a:ext cx="641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f497d"/>
                </a:solidFill>
                <a:latin typeface="Arial"/>
                <a:ea typeface="Arial"/>
              </a:rPr>
              <a:t>UM PROGRAMA EXTEN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lássicos de excelência. Pilotos de refer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150920"/>
            <a:ext cx="626436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Historic Festival pretende ser uma referência nacional e internacional nos eventos de automobilis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Esta é a primeira edição do evento no novo circuito português – Autódromo Internacional do Algarve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programa inclui 16 corridas e 12 categorias de carros de competição clássicos e históric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HGPCA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Pre-1961and Pre-1966 F1, BRDC/HGPCA Sports C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tor Racing Legends: 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e-War GP Ca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he Masters Serie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Grand Prix Masters, World Sportscar Masters, Sports Racing Masters, Gentlemen Drivers GT &amp; Sport, Pre-66 Saloons, Touring ’70s, Proto ’70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ormula Junior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Lurani Formula Juni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errari, Maserati, Osca European Charity Parade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Desfile internacional com carros de proprietários portugueses, espanhóis e da Europa no ger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atronos – 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 50 Year Commemoration Charity Parade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prietários de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s de provenientes de toda a Europa experimentarão a nova pista, no Algarv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Apoio a um Instituição de Solidariedade Social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ação de parte da receita gerada pelas inscrições nos desfi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9245-D807-4CB0-815A-0E2A431E8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1"/>
          <p:cNvSpPr/>
          <p:nvPr/>
        </p:nvSpPr>
        <p:spPr>
          <a:xfrm>
            <a:off x="2484360" y="115920"/>
            <a:ext cx="64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PROVIS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2105280" cy="31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3640" y="614520"/>
            <a:ext cx="4908600" cy="619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A19F-8984-44F2-B318-BBCF40DB1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484360" y="307800"/>
            <a:ext cx="64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CHARITY PARADE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Desfi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-36360" y="752400"/>
            <a:ext cx="26636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INI 50 YEAR COMMEMORATION CHARITY PA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163520"/>
            <a:ext cx="665964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. CARROS ADMITID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delos Mini  de qualquer 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GRAM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1.30h – Concentração no Paddock do A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2.35h – Desfile com três voltas na pis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3.45h – Almoço e Entrega de prémios – VIP Loung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Opciona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exta 16 Out: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dia no Hotel e tours (a reservar com a Portim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6.00h – Concentração em Portim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4. TAXA DE INSCRIÇÃO: PACOTE BÁSICO - € 95,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laca do des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passes de fim-de-semana: Padd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cionamento dedicado no Padd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émios e lembranç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rês voltas na pista do Autódromo de Portim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Contribuição beneficente a reverter para a BOM SAMARITANO, instituição de  apoio a crianças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5. PACOTE ALTERNATIVO – € 19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 os mesmo itens que o Pacote Básico à excepção dos bilhetes, que neste caso são dois bilhetes VIP com acesso ao Paddock e à bancada VIP, dois almoços no Sábado no VIP Lounge e uma contribuição maior para a BOM SAMARIT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1720" y="4944960"/>
            <a:ext cx="71280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1944720" cy="11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7E68-3312-45A9-941C-25EE3FA8B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49360"/>
            <a:ext cx="234000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484360" y="44280"/>
            <a:ext cx="665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RESPONSABILIDADE SOCIAL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56000" y="1052640"/>
            <a:ext cx="6408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mportante contribuição de todos intervenientes (CMP, Concorrentes, Patrocinadores, Media e Público) para programas de apoio aos mais variados sectores da socie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cções de Marketing Social que valorizam a participação dos patrocinadores, através de realização de desfiles (por ex.) de Ferrari, cuja receita reverterá a favor de uma Instituição de Solidariedade Social – a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BOM SAMARITAN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, entidade algarvia de apoio a crianças desfavorecidas, filiada à Fundação Sueca com o mesmo no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No final dos anos oitenta, a Câmara Municipal de Portimão cedeu à Fundação um terreno para o "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Lar de Crianças Bom Samaritano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“, inaugurado em 1988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57360"/>
            <a:ext cx="226836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1f497d"/>
                </a:solidFill>
                <a:latin typeface="Arial"/>
                <a:ea typeface="Arial"/>
              </a:rPr>
              <a:t>Este evento, pela forma como está concebido, servirá de exemplo para a realização de acções sociai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4811760"/>
            <a:ext cx="197964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9AFE-0104-42CF-9770-E553DD889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646-1223"/>
          <p:cNvPicPr/>
          <p:nvPr/>
        </p:nvPicPr>
        <p:blipFill>
          <a:blip r:embed="rId1"/>
          <a:stretch/>
        </p:blipFill>
        <p:spPr>
          <a:xfrm>
            <a:off x="179280" y="947880"/>
            <a:ext cx="1908360" cy="12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IMG_0884"/>
          <p:cNvPicPr/>
          <p:nvPr/>
        </p:nvPicPr>
        <p:blipFill>
          <a:blip r:embed="rId2"/>
          <a:stretch/>
        </p:blipFill>
        <p:spPr>
          <a:xfrm>
            <a:off x="179280" y="2660760"/>
            <a:ext cx="1908360" cy="143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8" descr="646-0470"/>
          <p:cNvPicPr/>
          <p:nvPr/>
        </p:nvPicPr>
        <p:blipFill>
          <a:blip r:embed="rId3"/>
          <a:stretch/>
        </p:blipFill>
        <p:spPr>
          <a:xfrm>
            <a:off x="179280" y="4608360"/>
            <a:ext cx="1908360" cy="12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987640" y="3068640"/>
            <a:ext cx="5472000" cy="3349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484360" y="0"/>
            <a:ext cx="665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OS ESPAÇ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84360" y="1054080"/>
            <a:ext cx="6410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Paddock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 o coração das corridas, perto da emoção das boxes – os bastidores do evento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llag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Por excelência a área social e comercial do even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VILLAG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RESTAUR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oldo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ara carros históricos e cláss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99280" y="3068640"/>
            <a:ext cx="2736720" cy="1726920"/>
            <a:chOff x="6299280" y="3068640"/>
            <a:chExt cx="2736720" cy="1726920"/>
          </a:xfrm>
        </p:grpSpPr>
        <p:sp>
          <p:nvSpPr>
            <p:cNvPr id="99" name=""/>
            <p:cNvSpPr/>
            <p:nvPr/>
          </p:nvSpPr>
          <p:spPr>
            <a:xfrm>
              <a:off x="6299280" y="3068640"/>
              <a:ext cx="2736720" cy="1726920"/>
            </a:xfrm>
            <a:prstGeom prst="downArrowCallout">
              <a:avLst>
                <a:gd name="adj1" fmla="val 39622"/>
                <a:gd name="adj2" fmla="val 39619"/>
                <a:gd name="adj3" fmla="val 16667"/>
                <a:gd name="adj4" fmla="val 6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ão perca 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3 volt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a nova pista de F1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6720" y="3286080"/>
              <a:ext cx="180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594E-92AE-46A1-B11E-C4EB9C21D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03640" y="2205000"/>
            <a:ext cx="48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é um destino turístico com uma forte imagem internacional, devida às condições climáticas amenas, praias de areia branca, hospitalidade da população local e cozinha fabulos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Há também disponível uma vasta escolha de actividade e lazer no Algarve, incluindo pesca desportiva, desportos náuticos, vela, equitação e golfe, que é um dos desportos com a maior propagação e desenvolvimento no Algarve, atraindo milhares de golfistas, por ano, de todo o mundo. 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Planeie a sua viagem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03640" y="1052640"/>
            <a:ext cx="45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ITO MAIS QUE UM EVENTO AUTOMOBILÍSTIC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DA6B-6572-48AE-BF4D-5808AEAEC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21347" r="49679" b="0"/>
          <a:stretch/>
        </p:blipFill>
        <p:spPr>
          <a:xfrm>
            <a:off x="0" y="3948120"/>
            <a:ext cx="29163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158920"/>
            <a:ext cx="2916360" cy="193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31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867040" y="0"/>
            <a:ext cx="3289320" cy="2190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57680" y="2162160"/>
            <a:ext cx="3298680" cy="27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843280" y="488304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6156360" y="2170080"/>
            <a:ext cx="298764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BCA5-248E-45C5-8B4A-65A84D601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7:50:53Z</dcterms:created>
  <dc:creator>Windows User</dc:creator>
  <dc:description/>
  <dc:language>en-US</dc:language>
  <cp:lastModifiedBy>saral</cp:lastModifiedBy>
  <dcterms:modified xsi:type="dcterms:W3CDTF">2009-07-08T15:18:39Z</dcterms:modified>
  <cp:revision>178</cp:revision>
  <dc:subject/>
  <dc:title>Diapositivo 1</dc:title>
</cp:coreProperties>
</file>